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F4637-B69E-4B7F-B847-75B82829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7F41-390A-4BDD-AC99-9DC7D42C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B70E6-6AF2-450A-AEA6-163CE4DE4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B86E1-333B-4113-9DDC-49C44D0F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F7949-1394-457A-B20E-D49E0EBE3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775B-BF22-428E-9666-D858F21F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BF8C0-18CB-4CDB-8985-0FE9A142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3090-F1F6-402D-B10E-6CD9F574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3736-4ABB-44B0-9147-F9583828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D40F-04F8-496B-B45F-3CA97B33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14DDB-9974-4127-A689-BA9BBE09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5F28-1708-453D-9633-E3D7ACE28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4C55-4304-49C7-ABE6-2050B7794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ational_Swimming_Federation"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1973_World_Aquatics_Championships" TargetMode="External"/><Relationship Id="rId2" Type="http://schemas.openxmlformats.org/officeDocument/2006/relationships/slide" Target=""/><Relationship Id="rId3" Type="http://schemas.openxmlformats.org/officeDocument/2006/relationships/hyperlink" Target="http://en.wikipedia.org/wiki/1975_World_Aquatics_Championships" TargetMode="External"/><Relationship Id="rId4" Type="http://schemas.openxmlformats.org/officeDocument/2006/relationships/slide" Target=""/><Relationship Id="rId5" Type="http://schemas.openxmlformats.org/officeDocument/2006/relationships/hyperlink" Target="http://en.wikipedia.org/wiki/1978_World_Aquatics_Championships" TargetMode="External"/><Relationship Id="rId6" Type="http://schemas.openxmlformats.org/officeDocument/2006/relationships/slide" Target=""/><Relationship Id="rId7" Type="http://schemas.openxmlformats.org/officeDocument/2006/relationships/hyperlink" Target="http://en.wikipedia.org/wiki/1982_World_Aquatics_Championships" TargetMode="External"/><Relationship Id="rId8" Type="http://schemas.openxmlformats.org/officeDocument/2006/relationships/slide" Target=""/><Relationship Id="rId9" Type="http://schemas.openxmlformats.org/officeDocument/2006/relationships/hyperlink" Target="http://en.wikipedia.org/wiki/1986_World_Aquatics_Championships" TargetMode="External"/><Relationship Id="rId10" Type="http://schemas.openxmlformats.org/officeDocument/2006/relationships/slide" Target=""/><Relationship Id="rId11" Type="http://schemas.openxmlformats.org/officeDocument/2006/relationships/hyperlink" Target="http://en.wikipedia.org/wiki/1991_World_Aquatics_Championships" TargetMode="External"/><Relationship Id="rId12" Type="http://schemas.openxmlformats.org/officeDocument/2006/relationships/slide" Target=""/><Relationship Id="rId13" Type="http://schemas.openxmlformats.org/officeDocument/2006/relationships/hyperlink" Target="http://en.wikipedia.org/wiki/1994_World_Aquatics_Championships" TargetMode="External"/><Relationship Id="rId14" Type="http://schemas.openxmlformats.org/officeDocument/2006/relationships/slide" Target=""/><Relationship Id="rId15" Type="http://schemas.openxmlformats.org/officeDocument/2006/relationships/hyperlink" Target="http://en.wikipedia.org/wiki/1998_World_Aquatics_Championships" TargetMode="External"/><Relationship Id="rId16" Type="http://schemas.openxmlformats.org/officeDocument/2006/relationships/slide" Target=""/><Relationship Id="rId17" Type="http://schemas.openxmlformats.org/officeDocument/2006/relationships/hyperlink" Target="http://en.wikipedia.org/wiki/2001_World_Aquatics_Championships" TargetMode="External"/><Relationship Id="rId18" Type="http://schemas.openxmlformats.org/officeDocument/2006/relationships/slide" Target=""/><Relationship Id="rId19" Type="http://schemas.openxmlformats.org/officeDocument/2006/relationships/hyperlink" Target="http://en.wikipedia.org/wiki/2003_World_Aquatics_Championships" TargetMode="External"/><Relationship Id="rId20" Type="http://schemas.openxmlformats.org/officeDocument/2006/relationships/slide" Target=""/><Relationship Id="rId21" Type="http://schemas.openxmlformats.org/officeDocument/2006/relationships/hyperlink" Target="http://en.wikipedia.org/wiki/2005_World_Aquatics_Championships" TargetMode="External"/><Relationship Id="rId22" Type="http://schemas.openxmlformats.org/officeDocument/2006/relationships/slide" Target=""/><Relationship Id="rId23" Type="http://schemas.openxmlformats.org/officeDocument/2006/relationships/hyperlink" Target="http://en.wikipedia.org/wiki/2007_World_Aquatics_Championships" TargetMode="External"/><Relationship Id="rId24" Type="http://schemas.openxmlformats.org/officeDocument/2006/relationships/hyperlink" Target="http://en.wikipedia.org/wiki/Melbourne" TargetMode="External"/><Relationship Id="rId25" Type="http://schemas.openxmlformats.org/officeDocument/2006/relationships/hyperlink" Target="http://en.wikipedia.org/wiki/2009_World_Aquatics_Championships"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Swimming Championsh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Baker &amp; Ms. Raci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0-Meter Freestyle Histo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NA World Championships</a:t>
            </a:r>
            <a:r>
              <a:rPr b="0" lang="en-US" sz="2400" spc="-1" strike="noStrike">
                <a:solidFill>
                  <a:srgbClr val="000000"/>
                </a:solidFill>
                <a:latin typeface="Arial"/>
              </a:rPr>
              <a:t> or </a:t>
            </a:r>
            <a:r>
              <a:rPr b="1" lang="en-US" sz="2400" spc="-1" strike="noStrike">
                <a:solidFill>
                  <a:srgbClr val="000000"/>
                </a:solidFill>
                <a:latin typeface="Arial"/>
              </a:rPr>
              <a:t>World Aquatics Championships</a:t>
            </a:r>
            <a:r>
              <a:rPr b="0" lang="en-US" sz="2400" spc="-1" strike="noStrike">
                <a:solidFill>
                  <a:srgbClr val="000000"/>
                </a:solidFill>
                <a:latin typeface="Arial"/>
              </a:rPr>
              <a:t> are the World Championships for aquatic sports: diving, swimming, open water swimming, synchronized swimming and water polo. They are run by </a:t>
            </a:r>
            <a:r>
              <a:rPr b="0" lang="en-US" sz="2400" spc="-1" strike="noStrike" u="sng">
                <a:solidFill>
                  <a:srgbClr val="009999"/>
                </a:solidFill>
                <a:uFillTx/>
                <a:latin typeface="Arial"/>
                <a:hlinkClick r:id="rId1"/>
              </a:rPr>
              <a:t>FINA</a:t>
            </a:r>
            <a:r>
              <a:rPr b="0" lang="en-US" sz="2400" spc="-1" strike="noStrike" u="sng">
                <a:solidFill>
                  <a:srgbClr val="000000"/>
                </a:solidFill>
                <a:uFillTx/>
                <a:latin typeface="Arial"/>
              </a:rPr>
              <a:t>, and in the pool swimming events are contested in a 50 m, or "long course", p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 was first held in Yugoslavia in 1973 and is now held every 2 years. From 1978-1998, the World Championships were held every four years, in the even years between Summer Olympic years. From 2001 on, the Championships has been held every two years, in the odd yea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457200" y="533520"/>
          <a:ext cx="8229600" cy="6181560"/>
        </p:xfrm>
        <a:graphic>
          <a:graphicData uri="http://schemas.openxmlformats.org/drawingml/2006/table">
            <a:tbl>
              <a:tblPr/>
              <a:tblGrid>
                <a:gridCol w="1720800"/>
                <a:gridCol w="1595520"/>
                <a:gridCol w="1596960"/>
                <a:gridCol w="1451160"/>
                <a:gridCol w="186516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and Date</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mpionship</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tion event</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hlete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Events</a:t>
                      </a:r>
                      <a:endParaRPr b="0" lang="en-US" sz="1000" spc="-1" strike="noStrike">
                        <a:solidFill>
                          <a:srgbClr val="000000"/>
                        </a:solidFill>
                        <a:latin typeface="Arial"/>
                      </a:endParaRPr>
                    </a:p>
                  </a:txBody>
                  <a:tcPr anchor="ctr"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3: August 31 – September 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
                        </a:rPr>
                        <a:t>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lgrade, Yugoslav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6</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5: July 19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3"/>
                        </a:rPr>
                        <a:t>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i, Colomb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8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4"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8: August 20 – August 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5"/>
                        </a:rPr>
                        <a:t>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lin, West Germany</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6"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2: July 29 – August 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7"/>
                        </a:rPr>
                        <a:t>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ayaquil, Ecuador</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8" action="ppaction://hlinksldjump"/>
                        </a:rPr>
                        <a:t>15 (m), 14 (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 August 13 – August 2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9"/>
                        </a:rPr>
                        <a:t>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rid,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0"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1: January 3 – January 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1"/>
                        </a:rPr>
                        <a:t>V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2"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4: September 1 – September 1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3"/>
                        </a:rPr>
                        <a:t>V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me, Italy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0</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4"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8: January 8 – January 1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5"/>
                        </a:rPr>
                        <a:t>V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th, Australia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6" action="ppaction://hlinksldjump"/>
                        </a:rPr>
                        <a:t>16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 July 16 – July 29</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7"/>
                        </a:rPr>
                        <a:t>I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kuoka, Japa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8"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3: July 12 – July 27</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19"/>
                        </a:rPr>
                        <a:t>X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rcelona, Spain</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5</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0"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 July 16 – July 3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1"/>
                        </a:rPr>
                        <a:t>X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ntreal, Canad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84</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2" action="ppaction://hlinksldjump"/>
                        </a:rPr>
                        <a:t>20 (m/w)[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3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 March 18 – April 1</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3"/>
                        </a:rPr>
                        <a:t>X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4"/>
                        </a:rPr>
                        <a:t>Melbourne, Australi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8</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 (m), 36 (w)</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2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 July 17 – August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Arial"/>
                          <a:hlinkClick r:id="rId25"/>
                        </a:rPr>
                        <a:t>XIII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Rome, Italy (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2011: July 16 – 31[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I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Shanghai, China</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3</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Arial"/>
                          <a:ea typeface="Arial"/>
                        </a:rPr>
                        <a:t>XV FINA World Championships</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bai, UAE</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969696"/>
                      </a:solidFill>
                    </a:lnL>
                    <a:lnR w="5760">
                      <a:solidFill>
                        <a:srgbClr val="969696"/>
                      </a:solidFill>
                    </a:lnR>
                    <a:lnT w="5760">
                      <a:solidFill>
                        <a:srgbClr val="969696"/>
                      </a:solidFill>
                    </a:lnT>
                    <a:lnB w="5760">
                      <a:solidFill>
                        <a:srgbClr val="969696"/>
                      </a:solidFill>
                    </a:lnB>
                    <a:solidFill>
                      <a:srgbClr val="ffffff"/>
                    </a:solidFill>
                  </a:tcPr>
                </a:tc>
              </a:tr>
            </a:tbl>
          </a:graphicData>
        </a:graphic>
      </p:graphicFrame>
      <p:sp>
        <p:nvSpPr>
          <p:cNvPr id="46" name=""/>
          <p:cNvSpPr/>
          <p:nvPr/>
        </p:nvSpPr>
        <p:spPr>
          <a:xfrm>
            <a:off x="1981080" y="1522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Sites of FINA World Champ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 Biondi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and Olympic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iggest stars of the Seoul Games in 198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Michael Phelps, he was tied for most Olympic medals by an American athlet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Montgom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wimming Hall of F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nner of the event in 1973</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Jim Montgomery"/>
          <p:cNvPicPr/>
          <p:nvPr/>
        </p:nvPicPr>
        <p:blipFill>
          <a:blip r:embed="rId1"/>
          <a:stretch/>
        </p:blipFill>
        <p:spPr>
          <a:xfrm>
            <a:off x="6019920" y="4114800"/>
            <a:ext cx="12492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Competitor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nelia En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omen swimmer to win 4 gold medals at a single Olympic Ga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dministered steroids without her knowled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y Thomp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decorated Olympians in history, winning twelve medals, including eight gold med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first appeared on the international scene as a 14-year-old in 1987</a:t>
            </a:r>
            <a:endParaRPr b="0" lang="en-US" sz="2400" spc="-1" strike="noStrike">
              <a:solidFill>
                <a:srgbClr val="000000"/>
              </a:solidFill>
              <a:latin typeface="Arial"/>
            </a:endParaRPr>
          </a:p>
        </p:txBody>
      </p:sp>
      <p:pic>
        <p:nvPicPr>
          <p:cNvPr id="54" name="" descr="Kornelia Ender (rechts im ..."/>
          <p:cNvPicPr/>
          <p:nvPr/>
        </p:nvPicPr>
        <p:blipFill>
          <a:blip r:embed="rId1"/>
          <a:stretch/>
        </p:blipFill>
        <p:spPr>
          <a:xfrm>
            <a:off x="3276720" y="4495680"/>
            <a:ext cx="1209600" cy="152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s Scores</a:t>
            </a:r>
            <a:endParaRPr b="0" lang="en-US" sz="4400" spc="-1" strike="noStrike">
              <a:solidFill>
                <a:srgbClr val="000000"/>
              </a:solidFill>
              <a:latin typeface="Arial"/>
            </a:endParaRPr>
          </a:p>
        </p:txBody>
      </p:sp>
      <p:graphicFrame>
        <p:nvGraphicFramePr>
          <p:cNvPr id="56" name=""/>
          <p:cNvGraphicFramePr/>
          <p:nvPr/>
        </p:nvGraphicFramePr>
        <p:xfrm>
          <a:off x="457200" y="1600200"/>
          <a:ext cx="8229600" cy="4614840"/>
        </p:xfrm>
        <a:graphic>
          <a:graphicData uri="http://schemas.openxmlformats.org/drawingml/2006/table">
            <a:tbl>
              <a:tblPr/>
              <a:tblGrid>
                <a:gridCol w="1676520"/>
                <a:gridCol w="3581280"/>
                <a:gridCol w="297180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ntgomery ,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 Shaw,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vid McCagg,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rg Woith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t Biondi,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hony Ervi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eksandr Popov, R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ippo Magnini, I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sar Cielo, BR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Scores</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354560"/>
        </p:xfrm>
        <a:graphic>
          <a:graphicData uri="http://schemas.openxmlformats.org/drawingml/2006/table">
            <a:tbl>
              <a:tblPr/>
              <a:tblGrid>
                <a:gridCol w="1320840"/>
                <a:gridCol w="4019400"/>
                <a:gridCol w="2889360"/>
              </a:tblGrid>
              <a:tr h="307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Ye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inner, Count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Women's Tim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nelia Ender,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rbara Kraus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rgit Meineke,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ristin Otto, E.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cole Haislett,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 Jingyi, CH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enny Thompson, 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ge De Bruijn, N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nna-Maria Seppala, FI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odie Henry,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sbeth Lenton, A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itta Steffen, GE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Plot Comparing Times</a:t>
            </a:r>
            <a:endParaRPr b="0" lang="en-US" sz="2800" spc="-1" strike="noStrike">
              <a:solidFill>
                <a:srgbClr val="000000"/>
              </a:solidFill>
              <a:latin typeface="Arial"/>
            </a:endParaRPr>
          </a:p>
        </p:txBody>
      </p:sp>
      <p:graphicFrame>
        <p:nvGraphicFramePr>
          <p:cNvPr id="60" name=""/>
          <p:cNvGraphicFramePr/>
          <p:nvPr/>
        </p:nvGraphicFramePr>
        <p:xfrm>
          <a:off x="228600" y="685800"/>
          <a:ext cx="8686800" cy="6172200"/>
        </p:xfrm>
        <a:graphic>
          <a:graphicData uri="http://schemas.openxmlformats.org/presentationml/2006/ole">
            <p:oleObj progId="Excel.Sheet.12" r:id="rId1" spid="">
              <p:embed/>
              <p:pic>
                <p:nvPicPr>
                  <p:cNvPr id="61" name="" descr=""/>
                  <p:cNvPicPr/>
                  <p:nvPr/>
                </p:nvPicPr>
                <p:blipFill>
                  <a:blip r:embed="rId2"/>
                  <a:stretch/>
                </p:blipFill>
                <p:spPr>
                  <a:xfrm>
                    <a:off x="228600" y="685800"/>
                    <a:ext cx="868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Men’s and Women’s times ever be the sam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 data is trending in the same direction, therefore it is not likely that the two would m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21:11:26Z</dcterms:created>
  <dc:creator>Raciti.Angela</dc:creator>
  <dc:description/>
  <dc:language>en-US</dc:language>
  <cp:lastModifiedBy>Raciti.Angela</cp:lastModifiedBy>
  <dcterms:modified xsi:type="dcterms:W3CDTF">2009-10-29T21:35:50Z</dcterms:modified>
  <cp:revision>2</cp:revision>
  <dc:subject/>
  <dc:title>100-Meter Swimming Championship</dc:title>
</cp:coreProperties>
</file>