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D97239-86D7-4C26-8AB8-D47F404537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879CE-E5F6-4406-86B6-AA575E9F8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C12A6C-8E6B-42A3-8652-6B69CEBF6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2CCE6E-BA18-4747-B76A-76DB742904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D85A9-115C-45DB-A7A5-DD76C540F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A6124-D98E-48EE-BC3E-744D5BB3F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CE2A4-CC99-4D93-8EE9-F44A85B07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07345-3BB5-4A09-A110-F4255CC22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991AB-5C73-4D6D-B53A-613AC119A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0C90F-5186-4800-82ED-CB7490B72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697A2-055F-4B91-B5FB-23EB422B6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8D962-9229-48A3-991F-734463BEF3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A23DA-DFD8-4688-9FE7-566C61C343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en.wikipedia.org/wiki/International_Swimming_Federation"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en.wikipedia.org/wiki/1973_World_Aquatics_Championships" TargetMode="External"/><Relationship Id="rId2" Type="http://schemas.openxmlformats.org/officeDocument/2006/relationships/slide" Target=""/><Relationship Id="rId3" Type="http://schemas.openxmlformats.org/officeDocument/2006/relationships/hyperlink" Target="http://en.wikipedia.org/wiki/1975_World_Aquatics_Championships" TargetMode="External"/><Relationship Id="rId4" Type="http://schemas.openxmlformats.org/officeDocument/2006/relationships/slide" Target=""/><Relationship Id="rId5" Type="http://schemas.openxmlformats.org/officeDocument/2006/relationships/hyperlink" Target="http://en.wikipedia.org/wiki/1978_World_Aquatics_Championships" TargetMode="External"/><Relationship Id="rId6" Type="http://schemas.openxmlformats.org/officeDocument/2006/relationships/slide" Target=""/><Relationship Id="rId7" Type="http://schemas.openxmlformats.org/officeDocument/2006/relationships/hyperlink" Target="http://en.wikipedia.org/wiki/1982_World_Aquatics_Championships" TargetMode="External"/><Relationship Id="rId8" Type="http://schemas.openxmlformats.org/officeDocument/2006/relationships/slide" Target=""/><Relationship Id="rId9" Type="http://schemas.openxmlformats.org/officeDocument/2006/relationships/hyperlink" Target="http://en.wikipedia.org/wiki/1986_World_Aquatics_Championships" TargetMode="External"/><Relationship Id="rId10" Type="http://schemas.openxmlformats.org/officeDocument/2006/relationships/slide" Target=""/><Relationship Id="rId11" Type="http://schemas.openxmlformats.org/officeDocument/2006/relationships/hyperlink" Target="http://en.wikipedia.org/wiki/1991_World_Aquatics_Championships" TargetMode="External"/><Relationship Id="rId12" Type="http://schemas.openxmlformats.org/officeDocument/2006/relationships/slide" Target=""/><Relationship Id="rId13" Type="http://schemas.openxmlformats.org/officeDocument/2006/relationships/hyperlink" Target="http://en.wikipedia.org/wiki/1994_World_Aquatics_Championships" TargetMode="External"/><Relationship Id="rId14" Type="http://schemas.openxmlformats.org/officeDocument/2006/relationships/slide" Target=""/><Relationship Id="rId15" Type="http://schemas.openxmlformats.org/officeDocument/2006/relationships/hyperlink" Target="http://en.wikipedia.org/wiki/1998_World_Aquatics_Championships" TargetMode="External"/><Relationship Id="rId16" Type="http://schemas.openxmlformats.org/officeDocument/2006/relationships/slide" Target=""/><Relationship Id="rId17" Type="http://schemas.openxmlformats.org/officeDocument/2006/relationships/hyperlink" Target="http://en.wikipedia.org/wiki/2001_World_Aquatics_Championships" TargetMode="External"/><Relationship Id="rId18" Type="http://schemas.openxmlformats.org/officeDocument/2006/relationships/slide" Target=""/><Relationship Id="rId19" Type="http://schemas.openxmlformats.org/officeDocument/2006/relationships/hyperlink" Target="http://en.wikipedia.org/wiki/2003_World_Aquatics_Championships" TargetMode="External"/><Relationship Id="rId20" Type="http://schemas.openxmlformats.org/officeDocument/2006/relationships/slide" Target=""/><Relationship Id="rId21" Type="http://schemas.openxmlformats.org/officeDocument/2006/relationships/hyperlink" Target="http://en.wikipedia.org/wiki/2005_World_Aquatics_Championships" TargetMode="External"/><Relationship Id="rId22" Type="http://schemas.openxmlformats.org/officeDocument/2006/relationships/slide" Target=""/><Relationship Id="rId23" Type="http://schemas.openxmlformats.org/officeDocument/2006/relationships/hyperlink" Target="http://en.wikipedia.org/wiki/2007_World_Aquatics_Championships" TargetMode="External"/><Relationship Id="rId24" Type="http://schemas.openxmlformats.org/officeDocument/2006/relationships/hyperlink" Target="http://en.wikipedia.org/wiki/Melbourne" TargetMode="External"/><Relationship Id="rId25" Type="http://schemas.openxmlformats.org/officeDocument/2006/relationships/hyperlink" Target="http://en.wikipedia.org/wiki/2009_World_Aquatics_Championships" TargetMode="External"/><Relationship Id="rId2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0-Meter Swimming Championship</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r. Baker &amp; Ms. Raci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0-Meter Freestyle History</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FINA World Championships</a:t>
            </a:r>
            <a:r>
              <a:rPr b="0" lang="en-US" sz="2400" spc="-1" strike="noStrike">
                <a:solidFill>
                  <a:srgbClr val="000000"/>
                </a:solidFill>
                <a:latin typeface="Arial"/>
              </a:rPr>
              <a:t> or </a:t>
            </a:r>
            <a:r>
              <a:rPr b="1" lang="en-US" sz="2400" spc="-1" strike="noStrike">
                <a:solidFill>
                  <a:srgbClr val="000000"/>
                </a:solidFill>
                <a:latin typeface="Arial"/>
              </a:rPr>
              <a:t>World Aquatics Championships</a:t>
            </a:r>
            <a:r>
              <a:rPr b="0" lang="en-US" sz="2400" spc="-1" strike="noStrike">
                <a:solidFill>
                  <a:srgbClr val="000000"/>
                </a:solidFill>
                <a:latin typeface="Arial"/>
              </a:rPr>
              <a:t> are the World Championships for aquatic sports: diving, swimming, open water swimming, synchronized swimming and water polo. They are run by </a:t>
            </a:r>
            <a:r>
              <a:rPr b="0" lang="en-US" sz="2400" spc="-1" strike="noStrike" u="sng">
                <a:solidFill>
                  <a:srgbClr val="009999"/>
                </a:solidFill>
                <a:uFillTx/>
                <a:latin typeface="Arial"/>
                <a:hlinkClick r:id="rId1"/>
              </a:rPr>
              <a:t>FINA</a:t>
            </a:r>
            <a:r>
              <a:rPr b="0" lang="en-US" sz="2400" spc="-1" strike="noStrike" u="sng">
                <a:solidFill>
                  <a:srgbClr val="000000"/>
                </a:solidFill>
                <a:uFillTx/>
                <a:latin typeface="Arial"/>
              </a:rPr>
              <a:t>, and in the pool swimming events are contested in a 50 m, or "long course", poo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vent was first held in Yugoslavia in 1973 and is now held every 2 years. From 1978-1998, the World Championships were held every four years, in the even years between Summer Olympic years. From 2001 on, the Championships has been held every two years, in the odd year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 name=""/>
          <p:cNvGraphicFramePr/>
          <p:nvPr/>
        </p:nvGraphicFramePr>
        <p:xfrm>
          <a:off x="457200" y="533520"/>
          <a:ext cx="8229600" cy="6181560"/>
        </p:xfrm>
        <a:graphic>
          <a:graphicData uri="http://schemas.openxmlformats.org/drawingml/2006/table">
            <a:tbl>
              <a:tblPr/>
              <a:tblGrid>
                <a:gridCol w="1720800"/>
                <a:gridCol w="1595520"/>
                <a:gridCol w="1596960"/>
                <a:gridCol w="1451160"/>
                <a:gridCol w="1865160"/>
              </a:tblGrid>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ear and Date</a:t>
                      </a:r>
                      <a:endParaRPr b="0" lang="en-US" sz="1000" spc="-1" strike="noStrike">
                        <a:solidFill>
                          <a:srgbClr val="000000"/>
                        </a:solidFill>
                        <a:latin typeface="Arial"/>
                      </a:endParaRPr>
                    </a:p>
                  </a:txBody>
                  <a:tcPr anchor="ctr"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hampionship</a:t>
                      </a:r>
                      <a:endParaRPr b="0" lang="en-US" sz="1000" spc="-1" strike="noStrike">
                        <a:solidFill>
                          <a:srgbClr val="000000"/>
                        </a:solidFill>
                        <a:latin typeface="Arial"/>
                      </a:endParaRPr>
                    </a:p>
                  </a:txBody>
                  <a:tcPr anchor="ctr"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ocation event</a:t>
                      </a:r>
                      <a:endParaRPr b="0" lang="en-US" sz="1000" spc="-1" strike="noStrike">
                        <a:solidFill>
                          <a:srgbClr val="000000"/>
                        </a:solidFill>
                        <a:latin typeface="Arial"/>
                      </a:endParaRPr>
                    </a:p>
                  </a:txBody>
                  <a:tcPr anchor="ctr"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hletes</a:t>
                      </a:r>
                      <a:endParaRPr b="0" lang="en-US" sz="1000" spc="-1" strike="noStrike">
                        <a:solidFill>
                          <a:srgbClr val="000000"/>
                        </a:solidFill>
                        <a:latin typeface="Arial"/>
                      </a:endParaRPr>
                    </a:p>
                  </a:txBody>
                  <a:tcPr anchor="ctr"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Events</a:t>
                      </a:r>
                      <a:endParaRPr b="0" lang="en-US" sz="1000" spc="-1" strike="noStrike">
                        <a:solidFill>
                          <a:srgbClr val="000000"/>
                        </a:solidFill>
                        <a:latin typeface="Arial"/>
                      </a:endParaRPr>
                    </a:p>
                  </a:txBody>
                  <a:tcPr anchor="ctr"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8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73: August 31 – September 9</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
                        </a:rPr>
                        <a:t>I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lgrade, Yugoslavia</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86</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2" action="ppaction://hlinksldjump"/>
                        </a:rPr>
                        <a:t>15 (m), 14 (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2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75: July 19 – July 27</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3"/>
                        </a:rPr>
                        <a:t>II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li, Colombia</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82</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4" action="ppaction://hlinksldjump"/>
                        </a:rPr>
                        <a:t>15 (m), 14 (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8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78: August 20 – August 28</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5"/>
                        </a:rPr>
                        <a:t>III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rlin, West Germany</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28</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6" action="ppaction://hlinksldjump"/>
                        </a:rPr>
                        <a:t>15 (m), 14 (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2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82: July 29 – August 8</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7"/>
                        </a:rPr>
                        <a:t>IV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uayaquil, Ecuador</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48</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8" action="ppaction://hlinksldjump"/>
                        </a:rPr>
                        <a:t>15 (m), 14 (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8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86: August 13 – August 23</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9"/>
                        </a:rPr>
                        <a:t>V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drid, Spain</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19</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0" action="ppaction://hlinksldjump"/>
                        </a:rPr>
                        <a:t>16 (m/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8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91: January 3 – January 13</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1"/>
                        </a:rPr>
                        <a:t>VI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erth, Australia (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42</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2" action="ppaction://hlinksldjump"/>
                        </a:rPr>
                        <a:t>16 (m/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8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94: September 1 – September 1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3"/>
                        </a:rPr>
                        <a:t>VII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ome, Italy (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00</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4" action="ppaction://hlinksldjump"/>
                        </a:rPr>
                        <a:t>16 (m/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8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98: January 8 – January 17</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5"/>
                        </a:rPr>
                        <a:t>VIII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erth, Australia (2)</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7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6" action="ppaction://hlinksldjump"/>
                        </a:rPr>
                        <a:t>16 (m/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3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1: July 16 – July 29</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7"/>
                        </a:rPr>
                        <a:t>IX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ukuoka, Japan</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98</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8" action="ppaction://hlinksldjump"/>
                        </a:rPr>
                        <a:t>20 (m/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2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3: July 12 – July 27</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9"/>
                        </a:rPr>
                        <a:t>X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arcelona, Spain</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15</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20" action="ppaction://hlinksldjump"/>
                        </a:rPr>
                        <a:t>20 (m/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2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5: July 16 – July 3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21"/>
                        </a:rPr>
                        <a:t>XI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ntreal, Canada</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84</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22" action="ppaction://hlinksldjump"/>
                        </a:rPr>
                        <a:t>20 (m/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3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7: March 18 – April 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23"/>
                        </a:rPr>
                        <a:t>XII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24"/>
                        </a:rPr>
                        <a:t>Melbourne, Australia</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158</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9 (m), 36 (w)</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2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9: July 17 – August 2</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25"/>
                        </a:rPr>
                        <a:t>XIII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Rome, Italy (2)</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8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2011: July 16 – 31[2]</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XIV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Shanghai, China</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85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13</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XV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ubai, UAE</a:t>
                      </a:r>
                      <a:r>
                        <a:rPr b="0" lang="en-US" sz="1000" spc="-1" strike="noStrike" baseline="30000">
                          <a:solidFill>
                            <a:srgbClr val="000000"/>
                          </a:solidFill>
                          <a:latin typeface="Arial"/>
                          <a:ea typeface="Arial"/>
                        </a:rPr>
                        <a:t>[2]</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bl>
          </a:graphicData>
        </a:graphic>
      </p:graphicFrame>
      <p:sp>
        <p:nvSpPr>
          <p:cNvPr id="46" name=""/>
          <p:cNvSpPr/>
          <p:nvPr/>
        </p:nvSpPr>
        <p:spPr>
          <a:xfrm>
            <a:off x="1981080" y="152280"/>
            <a:ext cx="5257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Sites of FINA World Championshi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able Competitor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t Biondi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Swimming and Olympic Hall of Fam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iggest stars of the Seoul Games in 1988</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Michael Phelps, he was tied for most Olympic medals by an American athlet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im Montgomer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Swimming Hall of Fam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winner of the event in 1973</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 name="" descr="Jim Montgomery"/>
          <p:cNvPicPr/>
          <p:nvPr/>
        </p:nvPicPr>
        <p:blipFill>
          <a:blip r:embed="rId1"/>
          <a:stretch/>
        </p:blipFill>
        <p:spPr>
          <a:xfrm>
            <a:off x="6019920" y="4114800"/>
            <a:ext cx="1249200" cy="152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able Competitor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rnelia End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women swimmer to win 4 gold medals at a single Olympic Gam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s administered steroids without her knowledg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nny Thomps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ost decorated Olympians in history, winning twelve medals, including eight gold meda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e first appeared on the international scene as a 14-year-old in 1987</a:t>
            </a:r>
            <a:endParaRPr b="0" lang="en-US" sz="2400" spc="-1" strike="noStrike">
              <a:solidFill>
                <a:srgbClr val="000000"/>
              </a:solidFill>
              <a:latin typeface="Arial"/>
            </a:endParaRPr>
          </a:p>
        </p:txBody>
      </p:sp>
      <p:pic>
        <p:nvPicPr>
          <p:cNvPr id="54" name="" descr="Kornelia Ender (rechts im ..."/>
          <p:cNvPicPr/>
          <p:nvPr/>
        </p:nvPicPr>
        <p:blipFill>
          <a:blip r:embed="rId1"/>
          <a:stretch/>
        </p:blipFill>
        <p:spPr>
          <a:xfrm>
            <a:off x="3276720" y="4495680"/>
            <a:ext cx="1209600" cy="1524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n’s Scores</a:t>
            </a:r>
            <a:endParaRPr b="0" lang="en-US" sz="4400" spc="-1" strike="noStrike">
              <a:solidFill>
                <a:srgbClr val="000000"/>
              </a:solidFill>
              <a:latin typeface="Arial"/>
            </a:endParaRPr>
          </a:p>
        </p:txBody>
      </p:sp>
      <p:graphicFrame>
        <p:nvGraphicFramePr>
          <p:cNvPr id="56" name=""/>
          <p:cNvGraphicFramePr/>
          <p:nvPr/>
        </p:nvGraphicFramePr>
        <p:xfrm>
          <a:off x="457200" y="1600200"/>
          <a:ext cx="8229600" cy="4614840"/>
        </p:xfrm>
        <a:graphic>
          <a:graphicData uri="http://schemas.openxmlformats.org/drawingml/2006/table">
            <a:tbl>
              <a:tblPr/>
              <a:tblGrid>
                <a:gridCol w="1676520"/>
                <a:gridCol w="3581280"/>
                <a:gridCol w="2971800"/>
              </a:tblGrid>
              <a:tr h="2764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Yea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Winner, Countr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Men's Tim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23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7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m Montgomery , U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1.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7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im Shaw, U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1.2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7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avid McCagg, U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0.2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5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8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Jorg Woithe, E. Ge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0.1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8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t Biondi, U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9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9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t Biondi, U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9.1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5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9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leksandr Popov, RU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9.1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9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leksandr Popov, RU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9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nthony Ervin, U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3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leksandr Popov, RU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4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5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lippo Magnini, IT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1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lippo Magnini, IT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4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esar Cielo, BR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6.9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men’s Scores</a:t>
            </a:r>
            <a:endParaRPr b="0" lang="en-US" sz="4400" spc="-1" strike="noStrike">
              <a:solidFill>
                <a:srgbClr val="000000"/>
              </a:solidFill>
              <a:latin typeface="Arial"/>
            </a:endParaRPr>
          </a:p>
        </p:txBody>
      </p:sp>
      <p:graphicFrame>
        <p:nvGraphicFramePr>
          <p:cNvPr id="58" name=""/>
          <p:cNvGraphicFramePr/>
          <p:nvPr/>
        </p:nvGraphicFramePr>
        <p:xfrm>
          <a:off x="457200" y="1600200"/>
          <a:ext cx="8229600" cy="4354560"/>
        </p:xfrm>
        <a:graphic>
          <a:graphicData uri="http://schemas.openxmlformats.org/drawingml/2006/table">
            <a:tbl>
              <a:tblPr/>
              <a:tblGrid>
                <a:gridCol w="1320840"/>
                <a:gridCol w="4019400"/>
                <a:gridCol w="2889360"/>
              </a:tblGrid>
              <a:tr h="3078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Yea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Winner, Countr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Women's Tim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09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7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Kornelia Ender, E. Ge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7.5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8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7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Kornelia Ender, E. Ge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6.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9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7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arbara Krause, E. Ge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5.6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8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8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irgit Meineke, E. Ge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5.7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9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8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Kristin Otto, E. Ge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5.0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8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9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icole Haislett, U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5.1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9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9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 Jingyi, CH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4.0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8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9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Jenny Thompson, U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4.9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9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ge De Bruijn, NED</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4.1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41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anna-Maria Seppala, FI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4.3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8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Jodie Henry, AU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4.1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9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isbeth Lenton, AU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3.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8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ritta Steffen, GE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2.0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22860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tter Plot Comparing Times</a:t>
            </a:r>
            <a:endParaRPr b="0" lang="en-US" sz="2800" spc="-1" strike="noStrike">
              <a:solidFill>
                <a:srgbClr val="000000"/>
              </a:solidFill>
              <a:latin typeface="Arial"/>
            </a:endParaRPr>
          </a:p>
        </p:txBody>
      </p:sp>
      <p:graphicFrame>
        <p:nvGraphicFramePr>
          <p:cNvPr id="60" name=""/>
          <p:cNvGraphicFramePr/>
          <p:nvPr/>
        </p:nvGraphicFramePr>
        <p:xfrm>
          <a:off x="228600" y="685800"/>
          <a:ext cx="8686800" cy="6172200"/>
        </p:xfrm>
        <a:graphic>
          <a:graphicData uri="http://schemas.openxmlformats.org/presentationml/2006/ole">
            <p:oleObj progId="Excel.Sheet.12" r:id="rId1" spid="">
              <p:embed/>
              <p:pic>
                <p:nvPicPr>
                  <p:cNvPr id="61" name="" descr=""/>
                  <p:cNvPicPr/>
                  <p:nvPr/>
                </p:nvPicPr>
                <p:blipFill>
                  <a:blip r:embed="rId2"/>
                  <a:stretch/>
                </p:blipFill>
                <p:spPr>
                  <a:xfrm>
                    <a:off x="228600" y="685800"/>
                    <a:ext cx="8686800" cy="617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diction</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the Men’s and Women’s times ever be the same?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The data is trending in the same direction, therefore it is not likely that the two would mee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21:11:26Z</dcterms:created>
  <dc:creator>Raciti.Angela</dc:creator>
  <dc:description/>
  <dc:language>en-US</dc:language>
  <cp:lastModifiedBy>Raciti.Angela</cp:lastModifiedBy>
  <dcterms:modified xsi:type="dcterms:W3CDTF">2009-10-29T21:35:50Z</dcterms:modified>
  <cp:revision>2</cp:revision>
  <dc:subject/>
  <dc:title>100-Meter Swimming Championship</dc:title>
</cp:coreProperties>
</file>