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51F9A-A655-4B8F-9A0D-D3C0B96BE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D2A82-5753-438A-9E65-80079A071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59934-7515-4B2B-873F-2C037D494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5236F-0C1E-44E7-A957-60EE32B26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E9B67-DEB2-4C34-8585-0D61B2E01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DFE53-397C-44DE-A60B-03957048F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ED87A-EA9D-4644-A625-A3C1BD723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5DD0D-7528-4C44-A3A2-963A1AB17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606A2-2965-4362-9B94-280D4A088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CFF3B-99FF-47FD-BCC0-32042320A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1D668-E7F0-4803-830E-303B121DD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B7296-7F40-4044-9DEA-9E69BDADA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E9DF-EDCA-4D45-B3C6-5F04D6A26B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en.wikipedia.org/wiki/International_Swimming_Federation"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1973_World_Aquatics_Championships" TargetMode="External"/><Relationship Id="rId2" Type="http://schemas.openxmlformats.org/officeDocument/2006/relationships/slide" Target=""/><Relationship Id="rId3" Type="http://schemas.openxmlformats.org/officeDocument/2006/relationships/hyperlink" Target="http://en.wikipedia.org/wiki/1975_World_Aquatics_Championships" TargetMode="External"/><Relationship Id="rId4" Type="http://schemas.openxmlformats.org/officeDocument/2006/relationships/slide" Target=""/><Relationship Id="rId5" Type="http://schemas.openxmlformats.org/officeDocument/2006/relationships/hyperlink" Target="http://en.wikipedia.org/wiki/1978_World_Aquatics_Championships" TargetMode="External"/><Relationship Id="rId6" Type="http://schemas.openxmlformats.org/officeDocument/2006/relationships/slide" Target=""/><Relationship Id="rId7" Type="http://schemas.openxmlformats.org/officeDocument/2006/relationships/hyperlink" Target="http://en.wikipedia.org/wiki/1982_World_Aquatics_Championships" TargetMode="External"/><Relationship Id="rId8" Type="http://schemas.openxmlformats.org/officeDocument/2006/relationships/slide" Target=""/><Relationship Id="rId9" Type="http://schemas.openxmlformats.org/officeDocument/2006/relationships/hyperlink" Target="http://en.wikipedia.org/wiki/1986_World_Aquatics_Championships" TargetMode="External"/><Relationship Id="rId10" Type="http://schemas.openxmlformats.org/officeDocument/2006/relationships/slide" Target=""/><Relationship Id="rId11" Type="http://schemas.openxmlformats.org/officeDocument/2006/relationships/hyperlink" Target="http://en.wikipedia.org/wiki/1991_World_Aquatics_Championships" TargetMode="External"/><Relationship Id="rId12" Type="http://schemas.openxmlformats.org/officeDocument/2006/relationships/slide" Target=""/><Relationship Id="rId13" Type="http://schemas.openxmlformats.org/officeDocument/2006/relationships/hyperlink" Target="http://en.wikipedia.org/wiki/1994_World_Aquatics_Championships" TargetMode="External"/><Relationship Id="rId14" Type="http://schemas.openxmlformats.org/officeDocument/2006/relationships/slide" Target=""/><Relationship Id="rId15" Type="http://schemas.openxmlformats.org/officeDocument/2006/relationships/hyperlink" Target="http://en.wikipedia.org/wiki/1998_World_Aquatics_Championships" TargetMode="External"/><Relationship Id="rId16" Type="http://schemas.openxmlformats.org/officeDocument/2006/relationships/slide" Target=""/><Relationship Id="rId17" Type="http://schemas.openxmlformats.org/officeDocument/2006/relationships/hyperlink" Target="http://en.wikipedia.org/wiki/2001_World_Aquatics_Championships" TargetMode="External"/><Relationship Id="rId18" Type="http://schemas.openxmlformats.org/officeDocument/2006/relationships/slide" Target=""/><Relationship Id="rId19" Type="http://schemas.openxmlformats.org/officeDocument/2006/relationships/hyperlink" Target="http://en.wikipedia.org/wiki/2003_World_Aquatics_Championships" TargetMode="External"/><Relationship Id="rId20" Type="http://schemas.openxmlformats.org/officeDocument/2006/relationships/slide" Target=""/><Relationship Id="rId21" Type="http://schemas.openxmlformats.org/officeDocument/2006/relationships/hyperlink" Target="http://en.wikipedia.org/wiki/2005_World_Aquatics_Championships" TargetMode="External"/><Relationship Id="rId22" Type="http://schemas.openxmlformats.org/officeDocument/2006/relationships/slide" Target=""/><Relationship Id="rId23" Type="http://schemas.openxmlformats.org/officeDocument/2006/relationships/hyperlink" Target="http://en.wikipedia.org/wiki/2007_World_Aquatics_Championships" TargetMode="External"/><Relationship Id="rId24" Type="http://schemas.openxmlformats.org/officeDocument/2006/relationships/hyperlink" Target="http://en.wikipedia.org/wiki/Melbourne" TargetMode="External"/><Relationship Id="rId25" Type="http://schemas.openxmlformats.org/officeDocument/2006/relationships/hyperlink" Target="http://en.wikipedia.org/wiki/2009_World_Aquatics_Championships" TargetMode="External"/><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0-Meter Swimming Championship</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 Baker &amp; Ms. Raci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0-Meter Freestyle Histor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FINA World Championships</a:t>
            </a:r>
            <a:r>
              <a:rPr b="0" lang="en-US" sz="2400" spc="-1" strike="noStrike">
                <a:solidFill>
                  <a:srgbClr val="000000"/>
                </a:solidFill>
                <a:latin typeface="Arial"/>
              </a:rPr>
              <a:t> or </a:t>
            </a:r>
            <a:r>
              <a:rPr b="1" lang="en-US" sz="2400" spc="-1" strike="noStrike">
                <a:solidFill>
                  <a:srgbClr val="000000"/>
                </a:solidFill>
                <a:latin typeface="Arial"/>
              </a:rPr>
              <a:t>World Aquatics Championships</a:t>
            </a:r>
            <a:r>
              <a:rPr b="0" lang="en-US" sz="2400" spc="-1" strike="noStrike">
                <a:solidFill>
                  <a:srgbClr val="000000"/>
                </a:solidFill>
                <a:latin typeface="Arial"/>
              </a:rPr>
              <a:t> are the World Championships for aquatic sports: diving, swimming, open water swimming, synchronized swimming and water polo. They are run by </a:t>
            </a:r>
            <a:r>
              <a:rPr b="0" lang="en-US" sz="2400" spc="-1" strike="noStrike" u="sng">
                <a:solidFill>
                  <a:srgbClr val="009999"/>
                </a:solidFill>
                <a:uFillTx/>
                <a:latin typeface="Arial"/>
                <a:hlinkClick r:id="rId1"/>
              </a:rPr>
              <a:t>FINA</a:t>
            </a:r>
            <a:r>
              <a:rPr b="0" lang="en-US" sz="2400" spc="-1" strike="noStrike" u="sng">
                <a:solidFill>
                  <a:srgbClr val="000000"/>
                </a:solidFill>
                <a:uFillTx/>
                <a:latin typeface="Arial"/>
              </a:rPr>
              <a:t>, and in the pool swimming events are contested in a 50 m, or "long course", po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ent was first held in Yugoslavia in 1973 and is now held every 2 years. From 1978-1998, the World Championships were held every four years, in the even years between Summer Olympic years. From 2001 on, the Championships has been held every two years, in the odd yea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457200" y="533520"/>
          <a:ext cx="8229600" cy="6181560"/>
        </p:xfrm>
        <a:graphic>
          <a:graphicData uri="http://schemas.openxmlformats.org/drawingml/2006/table">
            <a:tbl>
              <a:tblPr/>
              <a:tblGrid>
                <a:gridCol w="1720800"/>
                <a:gridCol w="1595520"/>
                <a:gridCol w="1596960"/>
                <a:gridCol w="1451160"/>
                <a:gridCol w="1865160"/>
              </a:tblGrid>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ear and Date</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hampionship</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ocation event</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hletes</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Events</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73: August 31 – September 9</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
                        </a:rPr>
                        <a:t>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lgrade, Yugoslavi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86</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 action="ppaction://hlinksldjump"/>
                        </a:rPr>
                        <a:t>15 (m), 14 (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75: July 19 – July 27</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3"/>
                        </a:rPr>
                        <a:t>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li, Colombi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8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4" action="ppaction://hlinksldjump"/>
                        </a:rPr>
                        <a:t>15 (m), 14 (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78: August 20 – August 2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5"/>
                        </a:rPr>
                        <a:t>I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rlin, West Germany</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2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6" action="ppaction://hlinksldjump"/>
                        </a:rPr>
                        <a:t>15 (m), 14 (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82: July 29 – August 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7"/>
                        </a:rPr>
                        <a:t>IV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uayaquil, Ecuador</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4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8" action="ppaction://hlinksldjump"/>
                        </a:rPr>
                        <a:t>15 (m), 14 (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86: August 13 – August 23</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9"/>
                        </a:rPr>
                        <a:t>V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drid, Spain</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19</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0" action="ppaction://hlinksldjump"/>
                        </a:rPr>
                        <a:t>16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1: January 3 – January 13</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1"/>
                        </a:rPr>
                        <a:t>V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th, Australia (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4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2" action="ppaction://hlinksldjump"/>
                        </a:rPr>
                        <a:t>16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4: September 1 – September 1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3"/>
                        </a:rPr>
                        <a:t>V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me, Italy (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00</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4" action="ppaction://hlinksldjump"/>
                        </a:rPr>
                        <a:t>16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8: January 8 – January 17</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5"/>
                        </a:rPr>
                        <a:t>VI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th, Australia (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7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6" action="ppaction://hlinksldjump"/>
                        </a:rPr>
                        <a:t>16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3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1: July 16 – July 29</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7"/>
                        </a:rPr>
                        <a:t>IX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ukuoka, Japan</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9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8" action="ppaction://hlinksldjump"/>
                        </a:rPr>
                        <a:t>20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3: July 12 – July 27</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9"/>
                        </a:rPr>
                        <a:t>X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rcelona, Spain</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15</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0" action="ppaction://hlinksldjump"/>
                        </a:rPr>
                        <a:t>20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5: July 16 – July 3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1"/>
                        </a:rPr>
                        <a:t>X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ntreal, Canad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84</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2" action="ppaction://hlinksldjump"/>
                        </a:rPr>
                        <a:t>20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3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7: March 18 – April 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3"/>
                        </a:rPr>
                        <a:t>X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4"/>
                        </a:rPr>
                        <a:t>Melbourne, Australi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5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 (m), 36 (w)</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9: July 17 – August 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5"/>
                        </a:rPr>
                        <a:t>XI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Rome, Italy (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2011: July 16 – 31[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XIV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Shanghai, Chin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13</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XV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ubai, UAE</a:t>
                      </a:r>
                      <a:r>
                        <a:rPr b="0" lang="en-US" sz="1000" spc="-1" strike="noStrike" baseline="30000">
                          <a:solidFill>
                            <a:srgbClr val="000000"/>
                          </a:solidFill>
                          <a:latin typeface="Arial"/>
                          <a:ea typeface="Arial"/>
                        </a:rPr>
                        <a:t>[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bl>
          </a:graphicData>
        </a:graphic>
      </p:graphicFrame>
      <p:sp>
        <p:nvSpPr>
          <p:cNvPr id="46" name=""/>
          <p:cNvSpPr/>
          <p:nvPr/>
        </p:nvSpPr>
        <p:spPr>
          <a:xfrm>
            <a:off x="1981080" y="152280"/>
            <a:ext cx="525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Sites of FINA World Championshi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able Competitor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t Biondi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wimming and Olympic Hall of Fam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iggest stars of the Seoul Games in 1988</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Michael Phelps, he was tied for most Olympic medals by an American athlet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Montgomer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wimming Hall of Fam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winner of the event in 1973</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 descr="Jim Montgomery"/>
          <p:cNvPicPr/>
          <p:nvPr/>
        </p:nvPicPr>
        <p:blipFill>
          <a:blip r:embed="rId1"/>
          <a:stretch/>
        </p:blipFill>
        <p:spPr>
          <a:xfrm>
            <a:off x="6019920" y="4114800"/>
            <a:ext cx="1249200" cy="152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able Competitor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rnelia End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women swimmer to win 4 gold medals at a single Olympic Gam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 administered steroids without her knowledg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nny Thomps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decorated Olympians in history, winning twelve medals, including eight gold med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first appeared on the international scene as a 14-year-old in 1987</a:t>
            </a:r>
            <a:endParaRPr b="0" lang="en-US" sz="2400" spc="-1" strike="noStrike">
              <a:solidFill>
                <a:srgbClr val="000000"/>
              </a:solidFill>
              <a:latin typeface="Arial"/>
            </a:endParaRPr>
          </a:p>
        </p:txBody>
      </p:sp>
      <p:pic>
        <p:nvPicPr>
          <p:cNvPr id="54" name="" descr="Kornelia Ender (rechts im ..."/>
          <p:cNvPicPr/>
          <p:nvPr/>
        </p:nvPicPr>
        <p:blipFill>
          <a:blip r:embed="rId1"/>
          <a:stretch/>
        </p:blipFill>
        <p:spPr>
          <a:xfrm>
            <a:off x="3276720" y="4495680"/>
            <a:ext cx="1209600" cy="152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s Scores</a:t>
            </a:r>
            <a:endParaRPr b="0" lang="en-US" sz="4400" spc="-1" strike="noStrike">
              <a:solidFill>
                <a:srgbClr val="000000"/>
              </a:solidFill>
              <a:latin typeface="Arial"/>
            </a:endParaRPr>
          </a:p>
        </p:txBody>
      </p:sp>
      <p:graphicFrame>
        <p:nvGraphicFramePr>
          <p:cNvPr id="56" name=""/>
          <p:cNvGraphicFramePr/>
          <p:nvPr/>
        </p:nvGraphicFramePr>
        <p:xfrm>
          <a:off x="457200" y="1600200"/>
          <a:ext cx="8229600" cy="4614840"/>
        </p:xfrm>
        <a:graphic>
          <a:graphicData uri="http://schemas.openxmlformats.org/drawingml/2006/table">
            <a:tbl>
              <a:tblPr/>
              <a:tblGrid>
                <a:gridCol w="1676520"/>
                <a:gridCol w="3581280"/>
                <a:gridCol w="2971800"/>
              </a:tblGrid>
              <a:tr h="276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Yea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Winner, Countr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Men's Tim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23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ntgomery ,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 Shaw,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vid McCagg,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5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org Woithe,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t Biondi,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t Biondi,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5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eksandr Popov, R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eksandr Popov, R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thony Ervin,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eksandr Popov, R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5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ippo Magnini, IT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ippo Magnini, IT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esar Cielo, BR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6.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men’s Scores</a:t>
            </a:r>
            <a:endParaRPr b="0" lang="en-US" sz="4400" spc="-1" strike="noStrike">
              <a:solidFill>
                <a:srgbClr val="000000"/>
              </a:solidFill>
              <a:latin typeface="Arial"/>
            </a:endParaRPr>
          </a:p>
        </p:txBody>
      </p:sp>
      <p:graphicFrame>
        <p:nvGraphicFramePr>
          <p:cNvPr id="58" name=""/>
          <p:cNvGraphicFramePr/>
          <p:nvPr/>
        </p:nvGraphicFramePr>
        <p:xfrm>
          <a:off x="457200" y="1600200"/>
          <a:ext cx="8229600" cy="4354560"/>
        </p:xfrm>
        <a:graphic>
          <a:graphicData uri="http://schemas.openxmlformats.org/drawingml/2006/table">
            <a:tbl>
              <a:tblPr/>
              <a:tblGrid>
                <a:gridCol w="1320840"/>
                <a:gridCol w="4019400"/>
                <a:gridCol w="2889360"/>
              </a:tblGrid>
              <a:tr h="307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Yea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Winner, Countr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Women's Tim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ornelia Ender,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7.5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ornelia Ender,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6.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arbara Krause,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6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irgit Meineke,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7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ristin Otto,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icole Haislett,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 Jingyi, CH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enny Thompson,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ge De Bruijn, N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41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anna-Maria Seppala, FI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3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odie Henry, A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isbeth Lenton, A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itta Steffen,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2.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6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tter Plot Comparing Times</a:t>
            </a:r>
            <a:endParaRPr b="0" lang="en-US" sz="2800" spc="-1" strike="noStrike">
              <a:solidFill>
                <a:srgbClr val="000000"/>
              </a:solidFill>
              <a:latin typeface="Arial"/>
            </a:endParaRPr>
          </a:p>
        </p:txBody>
      </p:sp>
      <p:graphicFrame>
        <p:nvGraphicFramePr>
          <p:cNvPr id="60" name=""/>
          <p:cNvGraphicFramePr/>
          <p:nvPr/>
        </p:nvGraphicFramePr>
        <p:xfrm>
          <a:off x="228600" y="685800"/>
          <a:ext cx="8686800" cy="6172200"/>
        </p:xfrm>
        <a:graphic>
          <a:graphicData uri="http://schemas.openxmlformats.org/presentationml/2006/ole">
            <p:oleObj progId="Excel.Sheet.12" r:id="rId1" spid="">
              <p:embed/>
              <p:pic>
                <p:nvPicPr>
                  <p:cNvPr id="61" name="" descr=""/>
                  <p:cNvPicPr/>
                  <p:nvPr/>
                </p:nvPicPr>
                <p:blipFill>
                  <a:blip r:embed="rId2"/>
                  <a:stretch/>
                </p:blipFill>
                <p:spPr>
                  <a:xfrm>
                    <a:off x="228600" y="685800"/>
                    <a:ext cx="868680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the Men’s and Women’s times ever be the same?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The data is trending in the same direction, therefore it is not likely that the two would me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21:11:26Z</dcterms:created>
  <dc:creator>Raciti.Angela</dc:creator>
  <dc:description/>
  <dc:language>en-US</dc:language>
  <cp:lastModifiedBy>Raciti.Angela</cp:lastModifiedBy>
  <dcterms:modified xsi:type="dcterms:W3CDTF">2009-10-29T21:35:50Z</dcterms:modified>
  <cp:revision>2</cp:revision>
  <dc:subject/>
  <dc:title>100-Meter Swimming Championship</dc:title>
</cp:coreProperties>
</file>